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9B31F-2CA7-4CBC-8930-01033E55BFC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soldiers, for example, have to be trained to shoot; it does not come naturally to them to kill other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true Hobbessian state of nature for Rousseau, where people are equally vulnerable and are no longer restrained by natural aversio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Not: desire to harm others, or take their goods, or be esteemed by others, though that plays a role too</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ough Hobbes must assume that we are not naturally squeamish about kil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tates </a:t>
            </a:r>
            <a:r>
              <a:rPr b="0" i="1" lang="en-NZ" sz="1200" spc="-1" strike="noStrike">
                <a:solidFill>
                  <a:srgbClr val="000000"/>
                </a:solidFill>
                <a:latin typeface="Arial"/>
              </a:rPr>
              <a:t>do</a:t>
            </a:r>
            <a:r>
              <a:rPr b="0" lang="en-NZ" sz="1200" spc="-1" strike="noStrike">
                <a:solidFill>
                  <a:srgbClr val="000000"/>
                </a:solidFill>
                <a:latin typeface="Arial"/>
              </a:rPr>
              <a:t> care about the comparative power of other states, and they are in a competitive context in which they </a:t>
            </a:r>
            <a:r>
              <a:rPr b="0" i="1" lang="en-NZ" sz="1200" spc="-1" strike="noStrike">
                <a:solidFill>
                  <a:srgbClr val="000000"/>
                </a:solidFill>
                <a:latin typeface="Arial"/>
              </a:rPr>
              <a:t>must</a:t>
            </a:r>
            <a:r>
              <a:rPr b="0" lang="en-NZ" sz="1200" spc="-1" strike="noStrike">
                <a:solidFill>
                  <a:srgbClr val="000000"/>
                </a:solidFill>
                <a:latin typeface="Arial"/>
              </a:rPr>
              <a:t> care about it; what is not true of human beings in the state of nature is true of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Rousseau’s very different assumptions from Hobbes’, he ends up in a worse place: conflict looks nearly irresolv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s about whether Rousseau or Hobbes have optimistic or pessimistic assumptions about human nature are useles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Right now, we live in the worst of both worlds: neither fully in a state of nature, nor fully in a civil state, with the inconveniences of both: our natural inclinations perverted by the tendencies of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More generally, there is a contradiction between nature and social institutions: either man should be left alone in nature, or he should be shaped more completely by social institu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sovereign is instituted to determine what is necessary for our self preservation, taking away the causes of conflict; peace endures so long as we agree who the sovereign i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if the sovereign isn’t very good; if the sovereign attacks you, then of course you are on your own in the state of nature as well, but as long as the sovereign keeps the peace you can have no cause for complain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hard to train people to kill other peopl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mour de soi: “Man desires his own well-being” but such well-being is “limited by nature to physical neces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self-love of man in comparison to others (hence, all the passions of honour, competition, etc.). “Abundance arouses gr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A583C5-99D2-485D-BAAF-34B774C5C2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B14BC-39B1-41E8-9680-03181B407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E3B530-D2F3-43B3-B59D-8AFC82550D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24C3B-4A0B-4B5E-A446-B548BD4BBD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ADF40-3202-485F-8EE1-4820A35BC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9487B-2CE0-4647-839C-8A386AE45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49743-662A-4AE9-BFAC-DFE87D821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51B5C-F130-49C9-858F-2AE07A837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306F6-38D4-4DAA-9C1A-5A2B4A546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D5739-40CA-41C8-9BC3-BB97D1240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A46F0-425C-41BD-90C7-A3F526C0E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A9225-E55D-476C-ADD9-AAC9AEA0F5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C76F2-1842-4BDC-A3B6-ADEAB94BF9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70000" contrast="-70000"/>
          </a:blip>
          <a:stretch/>
        </p:blipFill>
        <p:spPr>
          <a:xfrm>
            <a:off x="2424240" y="514440"/>
            <a:ext cx="4295520" cy="582912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Hobbes and Rousseau</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3 September 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development of rationality</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progress of our rationality depends on increasing interdependence (e.g., langu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Yet the progress of our rationality outruns our moral progress: “morals become corrupted as minds become more enlighte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version to killing</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has to </a:t>
            </a:r>
            <a:r>
              <a:rPr b="0" i="1" lang="en-US" sz="3200" spc="-1" strike="noStrike">
                <a:solidFill>
                  <a:srgbClr val="000000"/>
                </a:solidFill>
                <a:latin typeface="Arial"/>
              </a:rPr>
              <a:t>become</a:t>
            </a:r>
            <a:r>
              <a:rPr b="0" lang="en-US" sz="3200" spc="-1" strike="noStrike">
                <a:solidFill>
                  <a:srgbClr val="000000"/>
                </a:solidFill>
                <a:latin typeface="Arial"/>
              </a:rPr>
              <a:t> cruel; it does not normally happen overnigh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most effective means of muting the aversion to killing is group solidarity (e.g., nationali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loss of natural independence</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aturally love </a:t>
            </a:r>
            <a:r>
              <a:rPr b="0" i="1" lang="en-US" sz="3200" spc="-1" strike="noStrike">
                <a:solidFill>
                  <a:srgbClr val="000000"/>
                </a:solidFill>
                <a:latin typeface="Arial"/>
              </a:rPr>
              <a:t>independence</a:t>
            </a:r>
            <a:r>
              <a:rPr b="0" lang="en-US" sz="3200" spc="-1" strike="noStrike">
                <a:solidFill>
                  <a:srgbClr val="000000"/>
                </a:solidFill>
                <a:latin typeface="Arial"/>
              </a:rPr>
              <a:t>, not being in the power of another: this is freed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dependence destroys freedom by creating social inequality, and hence fosters confli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natural love of independence prevents the Hobbesian solution as we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72">
                                            <p:txEl>
                                              <p:pRg st="0" end="0"/>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72">
                                            <p:txEl>
                                              <p:pRg st="1" end="1"/>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sseau’s approach to conflict</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lict is ultimately the result, not of equality and our natural desires, but of </a:t>
            </a:r>
            <a:r>
              <a:rPr b="0" i="1" lang="en-US" sz="3200" spc="-1" strike="noStrike">
                <a:solidFill>
                  <a:srgbClr val="000000"/>
                </a:solidFill>
                <a:latin typeface="Arial"/>
              </a:rPr>
              <a:t>inequality </a:t>
            </a:r>
            <a:r>
              <a:rPr b="0" lang="en-US" sz="3200" spc="-1" strike="noStrike">
                <a:solidFill>
                  <a:srgbClr val="000000"/>
                </a:solidFill>
                <a:latin typeface="Arial"/>
              </a:rPr>
              <a:t>and </a:t>
            </a:r>
            <a:r>
              <a:rPr b="0" i="1" lang="en-US" sz="3200" spc="-1" strike="noStrike">
                <a:solidFill>
                  <a:srgbClr val="000000"/>
                </a:solidFill>
                <a:latin typeface="Arial"/>
              </a:rPr>
              <a:t>our socialized desires</a:t>
            </a:r>
            <a:r>
              <a:rPr b="0" lang="en-US" sz="3200" spc="-1" strike="noStrike">
                <a:solidFill>
                  <a:srgbClr val="000000"/>
                </a:solidFill>
                <a:latin typeface="Arial"/>
              </a:rPr>
              <a:t>, which come from the formation of </a:t>
            </a:r>
            <a:r>
              <a:rPr b="0" i="1" lang="en-US" sz="3200" spc="-1" strike="noStrike">
                <a:solidFill>
                  <a:srgbClr val="000000"/>
                </a:solidFill>
                <a:latin typeface="Arial"/>
              </a:rPr>
              <a:t>soci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sum, conflict is a result of </a:t>
            </a:r>
            <a:r>
              <a:rPr b="0" i="1" lang="en-US" sz="3200" spc="-1" strike="noStrike">
                <a:solidFill>
                  <a:srgbClr val="000000"/>
                </a:solidFill>
                <a:latin typeface="Arial"/>
              </a:rPr>
              <a:t>injusti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development of the civil state</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state of nature: total independence, scattered human beings, no conflic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development of the civil state</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tion pressures lead to: small, more or less stateless bands of relatively independent individuals (e.g., the Carib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development of “comparative” passions and the conflicts attendant on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development of the civil state</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vention of property leads to widespread conflict between rich and poor in a stateless context: the Hobbessian “state of na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development of the civil state</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ate is an invention of the rich, who benefit the most from i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prevents </a:t>
            </a:r>
            <a:r>
              <a:rPr b="0" i="1" lang="en-US" sz="2800" spc="-1" strike="noStrike">
                <a:solidFill>
                  <a:srgbClr val="000000"/>
                </a:solidFill>
                <a:latin typeface="Arial"/>
              </a:rPr>
              <a:t>some</a:t>
            </a:r>
            <a:r>
              <a:rPr b="0" lang="en-US" sz="2800" spc="-1" strike="noStrike">
                <a:solidFill>
                  <a:srgbClr val="000000"/>
                </a:solidFill>
                <a:latin typeface="Arial"/>
              </a:rPr>
              <a:t> of the horrid conflict of the previous st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all of these original states are quite imperfect and unjust, and though people tried to make them better occasionally, they mostly degenerated into tyrann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82">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development of the social state</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t>
            </a:r>
            <a:r>
              <a:rPr b="0" lang="en-NZ" sz="3200" spc="-1" strike="noStrike">
                <a:solidFill>
                  <a:srgbClr val="000000"/>
                </a:solidFill>
                <a:latin typeface="Arial"/>
              </a:rPr>
              <a:t>Well versed in my duties and happiness, I shut my book, leave the classroom, and look around me. I see unfortunate nations groaning under yokes of iron, the human race crushed by a handful of oppressors, a starving crowd overwhelmed with pain and hunger, whose blood and tears the rich drink in peace, and everywhere the strong armed against the weak with the formidable power of the la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development of the civil state</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t the state </a:t>
            </a:r>
            <a:r>
              <a:rPr b="0" i="1" lang="en-US" sz="2800" spc="-1" strike="noStrike">
                <a:solidFill>
                  <a:srgbClr val="000000"/>
                </a:solidFill>
                <a:latin typeface="Arial"/>
              </a:rPr>
              <a:t>externalizes</a:t>
            </a:r>
            <a:r>
              <a:rPr b="0" lang="en-US" sz="2800" spc="-1" strike="noStrike">
                <a:solidFill>
                  <a:srgbClr val="000000"/>
                </a:solidFill>
                <a:latin typeface="Arial"/>
              </a:rPr>
              <a:t> conflict: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one society is formed, others must form to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states, unlike individuals, are not naturally equal, and are placed in close connections with one anoth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ir power is thus relative to the power of other stat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over, states are vigorous to the extent they generate internal solidar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nternal solidarity can destroy the aversion to killing members of other group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86">
                                            <p:txEl>
                                              <p:pRg st="3" end="3"/>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86">
                                            <p:txEl>
                                              <p:pRg st="4" end="4"/>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8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Hobbes’ approach to conflict</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ere does conflict come from, for Hobb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Desire to preserve your life plu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ationality plu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Lack of a sovereign authority</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evelopment of the state</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ar comes from peace”, i.e., from the development of st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 is thus endemic in the international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sseau’s approach to conflict</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conflict be resolved, the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ing to the state of nature (generally impossi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perfectly socializing ourselves: creating a just society that replicates natural independence through dependence on the laws, and creating a federation of such societies (also terribly difficul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90">
                                            <p:txEl>
                                              <p:pRg st="1" end="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Countervailing tendencies</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s there any hop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ature is not entirely suppressed; it can never be entirely extinguishe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Human beings generally still love independence (freedom)</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Human beings generally still find it hard to kill and they abhor kill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92">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92">
                                            <p:txEl>
                                              <p:pRg st="2" end="2"/>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ould a just society look like?</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liminates all personal dependence and substitutes for it a dependence on the law: the rule of law</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ocializes us into becoming citizens, not having a private will distinct from the general wil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t is also small and not faced with great external dangers or the temptation to conqu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o is right, Hobbes or Rousseau?</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Hobbes’ approach to conflic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ow does conflict get resolved, according to Hobb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conflicting parties agree to a soverei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bbes’ approach to conflict</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asoning of the part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t is better for each of us individually that there </a:t>
            </a:r>
            <a:r>
              <a:rPr b="0" i="1" lang="en-NZ" sz="2400" spc="-1" strike="noStrike">
                <a:solidFill>
                  <a:srgbClr val="000000"/>
                </a:solidFill>
                <a:latin typeface="Arial"/>
              </a:rPr>
              <a:t>be </a:t>
            </a:r>
            <a:r>
              <a:rPr b="0" lang="en-NZ" sz="2400" spc="-1" strike="noStrike">
                <a:solidFill>
                  <a:srgbClr val="000000"/>
                </a:solidFill>
                <a:latin typeface="Arial"/>
              </a:rPr>
              <a:t>a sovereig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t is relatively unimportant, however, </a:t>
            </a:r>
            <a:r>
              <a:rPr b="0" i="1" lang="en-NZ" sz="2400" spc="-1" strike="noStrike">
                <a:solidFill>
                  <a:srgbClr val="000000"/>
                </a:solidFill>
                <a:latin typeface="Arial"/>
              </a:rPr>
              <a:t>who</a:t>
            </a:r>
            <a:r>
              <a:rPr b="0" lang="en-NZ" sz="2400" spc="-1" strike="noStrike">
                <a:solidFill>
                  <a:srgbClr val="000000"/>
                </a:solidFill>
                <a:latin typeface="Arial"/>
              </a:rPr>
              <a:t> that sovereign 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But once we agree on such a sovereign, we realize that it is no longer rational for us not to promise to restrain ourselves, and it is no longer rational to disagree on the sovereig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Peace endures so long as we agree on the sovereig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6">
                                            <p:txEl>
                                              <p:pRg st="3" end="3"/>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Hobbes’ approach to conflict</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civil state is always better than the state of nature; any form of government is better than no gover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sseau’s approach to conflict</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human beings naturally like, for Rousseau?</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desire to preserve themselv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they are not calculating machin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ey have an aversion to kill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also naturally independent, and love their independenc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sseau’s approach to conflict</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human beings naturally in confli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if we assume that originally human beings were few and widely scattered, Rousseau’s assumptions imply no great degree of confli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sseau’s approach to conflict</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where does conflict come from if it is not natur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the desire to preserve oneself, but the comparative passion of </a:t>
            </a:r>
            <a:r>
              <a:rPr b="0" i="1" lang="en-US" sz="2800" spc="-1" strike="noStrike">
                <a:solidFill>
                  <a:srgbClr val="000000"/>
                </a:solidFill>
                <a:latin typeface="Arial"/>
              </a:rPr>
              <a:t>amour prop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velopment of rationality in the service of </a:t>
            </a:r>
            <a:r>
              <a:rPr b="0" i="1" lang="en-US" sz="2800" spc="-1" strike="noStrike">
                <a:solidFill>
                  <a:srgbClr val="000000"/>
                </a:solidFill>
                <a:latin typeface="Arial"/>
              </a:rPr>
              <a:t>amour prop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mothering of the aversion to kill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oss of natural independence and the development of inequ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our propre vs. amour de soi</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mour de soi: the natural self-love of man for his own existen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mour propre: the self-love of man in comparison to oth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mour propre is only possible when we have become interdependent and can no longer live without many ot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3T02:39:42Z</dcterms:created>
  <dc:creator>Full Name</dc:creator>
  <dc:description/>
  <dc:language>en-US</dc:language>
  <cp:lastModifiedBy>Xavier Marquez</cp:lastModifiedBy>
  <dcterms:modified xsi:type="dcterms:W3CDTF">2008-09-09T19:16:54Z</dcterms:modified>
  <cp:revision>7</cp:revision>
  <dc:subject/>
  <dc:title>Hobbes and Rousseau</dc:title>
</cp:coreProperties>
</file>